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5640" y="640044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Technic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echnical"/>
              </a:rPr>
              <a:t>Workshop „Grundlagen HTML“ (Andreas Northe – northe@praehist.uni-halle.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686800" y="6477120"/>
            <a:ext cx="228600" cy="228600"/>
          </a:xfrm>
          <a:custGeom>
            <a:avLst/>
            <a:gdLst>
              <a:gd name="textAreaLeft" fmla="*/ 1440 w 228600"/>
              <a:gd name="textAreaRight" fmla="*/ 227160 w 228600"/>
              <a:gd name="textAreaTop" fmla="*/ 1440 h 228600"/>
              <a:gd name="textAreaBottom" fmla="*/ 2271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450" y="150"/>
                </a:lnTo>
                <a:lnTo>
                  <a:pt x="150" y="1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450" y="21450"/>
                </a:lnTo>
                <a:lnTo>
                  <a:pt x="21450" y="1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50" y="21450"/>
                </a:lnTo>
                <a:lnTo>
                  <a:pt x="21450" y="214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50" y="150"/>
                </a:lnTo>
                <a:lnTo>
                  <a:pt x="150" y="21450"/>
                </a:lnTo>
                <a:close/>
              </a:path>
              <a:path fill="darken" w="21600" h="21600">
                <a:moveTo>
                  <a:pt x="2862" y="2862"/>
                </a:moveTo>
                <a:lnTo>
                  <a:pt x="18738" y="10800"/>
                </a:lnTo>
                <a:lnTo>
                  <a:pt x="2862" y="1873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838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04920" y="1447920"/>
            <a:ext cx="84582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andartisierte Spra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schreibung der Darstellung von Hypertext-Dokum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estgelegt/empfohlen vom W3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3242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matik“ und „Rechtschreibung“ wichtig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962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fach zu erlern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04920" y="1600200"/>
          <a:ext cx="7924680" cy="2347920"/>
        </p:xfrm>
        <a:graphic>
          <a:graphicData uri="http://schemas.openxmlformats.org/drawingml/2006/table">
            <a:tbl>
              <a:tblPr/>
              <a:tblGrid>
                <a:gridCol w="5410080"/>
                <a:gridCol w="2514600"/>
              </a:tblGrid>
              <a:tr h="23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chachtelte 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mbination aus sortierten und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sortierten 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OL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LI&gt;...&lt;/LI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UL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LI&gt;...&lt;/LI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LI&gt;...&lt;/LI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/UL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LI&gt;...&lt;/LI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LI&gt;...&lt;/LI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/OL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8305920" y="16002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8380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lemente / TAGs der Textformat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4920" y="4114800"/>
          <a:ext cx="7924680" cy="1258920"/>
        </p:xfrm>
        <a:graphic>
          <a:graphicData uri="http://schemas.openxmlformats.org/drawingml/2006/table">
            <a:tbl>
              <a:tblPr/>
              <a:tblGrid>
                <a:gridCol w="5410080"/>
                <a:gridCol w="251460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lossar (Schlüsselwort + erläuternder Tex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DT&gt;...&lt;/DT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DD&gt;...&lt;/DD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8305920" y="41148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48680" y="193356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48680" y="443880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838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fiken / Bi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447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satz von Grafiken im WWW erfordert Grundkennt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981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cht alle Bildformate einsatz- / darstellungsfäh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1460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Gif-Dateien: 256 Farben darstellbar (sinnvoll für Grafiken); transparenter Hintergrund, Animationen und Interlacing mögl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04812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JPEG-Dateien: 16,7 Mill. Farben darstellbar (sinnvoll bei Fotos); hoher, einstellbarer Kompressions-fak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358128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PNG-Dateien: 16,7 Mill. Farben darstellbar; Transparenz und Interlacing möglich; verlustfreie Kom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4114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dezeiten verkür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64832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uflösung optimieren, Kompressionsfaktor so hoch wie mögl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51814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Farbeinsatz optimieren, Frabtiefe reduzie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571500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Interlaced-Grafiken (GIF, P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stonehenge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68580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380880" y="838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fiken / Bi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stonehng2" descr=""/>
          <p:cNvPicPr/>
          <p:nvPr/>
        </p:nvPicPr>
        <p:blipFill>
          <a:blip r:embed="rId2"/>
          <a:stretch/>
        </p:blipFill>
        <p:spPr>
          <a:xfrm>
            <a:off x="3581280" y="609480"/>
            <a:ext cx="5515200" cy="571500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grpSp>
        <p:nvGrpSpPr>
          <p:cNvPr id="141" name=""/>
          <p:cNvGrpSpPr/>
          <p:nvPr/>
        </p:nvGrpSpPr>
        <p:grpSpPr>
          <a:xfrm>
            <a:off x="2133720" y="609480"/>
            <a:ext cx="1447560" cy="5715000"/>
            <a:chOff x="2133720" y="609480"/>
            <a:chExt cx="1447560" cy="5715000"/>
          </a:xfrm>
        </p:grpSpPr>
        <p:sp>
          <p:nvSpPr>
            <p:cNvPr id="142" name=""/>
            <p:cNvSpPr/>
            <p:nvPr/>
          </p:nvSpPr>
          <p:spPr>
            <a:xfrm>
              <a:off x="2133720" y="3581280"/>
              <a:ext cx="144756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133720" y="609480"/>
              <a:ext cx="1447560" cy="914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9680" y="1285920"/>
            <a:ext cx="30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ilder als JP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838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fiken/Bi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ocards_avebury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5715000" cy="4000320"/>
          </a:xfrm>
          <a:prstGeom prst="rect">
            <a:avLst/>
          </a:prstGeom>
          <a:ln w="0">
            <a:noFill/>
          </a:ln>
        </p:spPr>
      </p:pic>
      <p:pic>
        <p:nvPicPr>
          <p:cNvPr id="147" name="avebury_32" descr=""/>
          <p:cNvPicPr/>
          <p:nvPr/>
        </p:nvPicPr>
        <p:blipFill>
          <a:blip r:embed="rId2"/>
          <a:stretch/>
        </p:blipFill>
        <p:spPr>
          <a:xfrm>
            <a:off x="3276720" y="152280"/>
            <a:ext cx="5715000" cy="4000680"/>
          </a:xfrm>
          <a:prstGeom prst="rect">
            <a:avLst/>
          </a:prstGeom>
          <a:ln w="0">
            <a:noFill/>
          </a:ln>
        </p:spPr>
      </p:pic>
      <p:pic>
        <p:nvPicPr>
          <p:cNvPr id="148" name="avebury_5" descr=""/>
          <p:cNvPicPr/>
          <p:nvPr/>
        </p:nvPicPr>
        <p:blipFill>
          <a:blip r:embed="rId3"/>
          <a:stretch/>
        </p:blipFill>
        <p:spPr>
          <a:xfrm>
            <a:off x="3276720" y="2400480"/>
            <a:ext cx="5715000" cy="4000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1981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8 (237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2286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 (66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25146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(25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040" y="1362240"/>
            <a:ext cx="308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der als GIFs mit unterschiedlicher Farbanzahl und Dateigröß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838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fiken / Bi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04920" y="1600200"/>
          <a:ext cx="7924680" cy="3486240"/>
        </p:xfrm>
        <a:graphic>
          <a:graphicData uri="http://schemas.openxmlformats.org/drawingml/2006/table">
            <a:tbl>
              <a:tblPr/>
              <a:tblGrid>
                <a:gridCol w="2908080"/>
                <a:gridCol w="5016600"/>
              </a:tblGrid>
              <a:tr h="15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 gleichen Ort (Server+Ordner) wie HTML-Dokumen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IMG SRC=„name.xxx“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anderem Ordner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IMG SRC=„ordnername/name.xxx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f anderem Server (andere URL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IMG SRC=„http://www.beispiel.de/ordnername/ name.xxx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5" name="bildseite" descr=""/>
          <p:cNvPicPr/>
          <p:nvPr/>
        </p:nvPicPr>
        <p:blipFill>
          <a:blip r:embed="rId1"/>
          <a:stretch/>
        </p:blipFill>
        <p:spPr>
          <a:xfrm>
            <a:off x="152280" y="623880"/>
            <a:ext cx="5319720" cy="5319720"/>
          </a:xfrm>
          <a:prstGeom prst="rect">
            <a:avLst/>
          </a:prstGeom>
          <a:ln w="0">
            <a:noFill/>
          </a:ln>
        </p:spPr>
      </p:pic>
      <p:pic>
        <p:nvPicPr>
          <p:cNvPr id="156" name="code" descr=""/>
          <p:cNvPicPr/>
          <p:nvPr/>
        </p:nvPicPr>
        <p:blipFill>
          <a:blip r:embed="rId2"/>
          <a:stretch/>
        </p:blipFill>
        <p:spPr>
          <a:xfrm>
            <a:off x="3797280" y="901800"/>
            <a:ext cx="52704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838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fiken / Bi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1600200"/>
          <a:ext cx="7924680" cy="2514600"/>
        </p:xfrm>
        <a:graphic>
          <a:graphicData uri="http://schemas.openxmlformats.org/drawingml/2006/table">
            <a:tbl>
              <a:tblPr/>
              <a:tblGrid>
                <a:gridCol w="2908080"/>
                <a:gridCol w="50166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mrandu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IMG SRC=„...“ BORDER=n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richtu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IMG SRC=„...“ ALIGN=ausrichtung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ößenangab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IMG SRC=„...“ WIDTH=n HEIGHT=n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8305920" y="16002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24382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15100" y="3837"/>
                </a:moveTo>
                <a:lnTo>
                  <a:pt x="17676" y="6448"/>
                </a:lnTo>
                <a:lnTo>
                  <a:pt x="17676" y="4707"/>
                </a:lnTo>
                <a:lnTo>
                  <a:pt x="19451" y="4707"/>
                </a:lnTo>
                <a:lnTo>
                  <a:pt x="19451" y="8224"/>
                </a:lnTo>
                <a:lnTo>
                  <a:pt x="22063" y="10800"/>
                </a:lnTo>
                <a:lnTo>
                  <a:pt x="20409" y="10800"/>
                </a:lnTo>
                <a:lnTo>
                  <a:pt x="20409" y="17989"/>
                </a:lnTo>
                <a:lnTo>
                  <a:pt x="9790" y="17989"/>
                </a:lnTo>
                <a:lnTo>
                  <a:pt x="9790" y="10800"/>
                </a:lnTo>
                <a:lnTo>
                  <a:pt x="8137" y="10800"/>
                </a:lnTo>
                <a:close/>
              </a:path>
              <a:path fill="darkenLess" w="30199" h="21600">
                <a:moveTo>
                  <a:pt x="17676" y="6448"/>
                </a:moveTo>
                <a:lnTo>
                  <a:pt x="17676" y="4707"/>
                </a:lnTo>
                <a:lnTo>
                  <a:pt x="19451" y="4707"/>
                </a:lnTo>
                <a:lnTo>
                  <a:pt x="19451" y="8224"/>
                </a:lnTo>
                <a:close/>
              </a:path>
              <a:path fill="darkenLess" w="30199" h="21600">
                <a:moveTo>
                  <a:pt x="14177" y="14299"/>
                </a:moveTo>
                <a:lnTo>
                  <a:pt x="16022" y="14299"/>
                </a:lnTo>
                <a:lnTo>
                  <a:pt x="16022" y="17989"/>
                </a:lnTo>
                <a:lnTo>
                  <a:pt x="20409" y="17989"/>
                </a:lnTo>
                <a:lnTo>
                  <a:pt x="20409" y="10800"/>
                </a:lnTo>
                <a:lnTo>
                  <a:pt x="9790" y="10800"/>
                </a:lnTo>
                <a:lnTo>
                  <a:pt x="9790" y="17989"/>
                </a:lnTo>
                <a:lnTo>
                  <a:pt x="14177" y="17989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58040" y="277164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192420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838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rafiken / Bilder und Textflu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1600200"/>
          <a:ext cx="7924680" cy="2838600"/>
        </p:xfrm>
        <a:graphic>
          <a:graphicData uri="http://schemas.openxmlformats.org/drawingml/2006/table">
            <a:tbl>
              <a:tblPr/>
              <a:tblGrid>
                <a:gridCol w="3047760"/>
                <a:gridCol w="487692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links neben Bil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G SRC=„...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IGN=RIGHT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rechts neben Bil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G SRC=„...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IGN=LEFT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tikale/horizontale Abstän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G SRC=„...“ ALIGN=...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SPACE=n HSPACE=n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8305920" y="16002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24382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15100" y="3837"/>
                </a:moveTo>
                <a:lnTo>
                  <a:pt x="17676" y="6448"/>
                </a:lnTo>
                <a:lnTo>
                  <a:pt x="17676" y="4707"/>
                </a:lnTo>
                <a:lnTo>
                  <a:pt x="19451" y="4707"/>
                </a:lnTo>
                <a:lnTo>
                  <a:pt x="19451" y="8224"/>
                </a:lnTo>
                <a:lnTo>
                  <a:pt x="22063" y="10800"/>
                </a:lnTo>
                <a:lnTo>
                  <a:pt x="20409" y="10800"/>
                </a:lnTo>
                <a:lnTo>
                  <a:pt x="20409" y="17989"/>
                </a:lnTo>
                <a:lnTo>
                  <a:pt x="9790" y="17989"/>
                </a:lnTo>
                <a:lnTo>
                  <a:pt x="9790" y="10800"/>
                </a:lnTo>
                <a:lnTo>
                  <a:pt x="8137" y="10800"/>
                </a:lnTo>
                <a:close/>
              </a:path>
              <a:path fill="darkenLess" w="30199" h="21600">
                <a:moveTo>
                  <a:pt x="17676" y="6448"/>
                </a:moveTo>
                <a:lnTo>
                  <a:pt x="17676" y="4707"/>
                </a:lnTo>
                <a:lnTo>
                  <a:pt x="19451" y="4707"/>
                </a:lnTo>
                <a:lnTo>
                  <a:pt x="19451" y="8224"/>
                </a:lnTo>
                <a:close/>
              </a:path>
              <a:path fill="darkenLess" w="30199" h="21600">
                <a:moveTo>
                  <a:pt x="14177" y="14299"/>
                </a:moveTo>
                <a:lnTo>
                  <a:pt x="16022" y="14299"/>
                </a:lnTo>
                <a:lnTo>
                  <a:pt x="16022" y="17989"/>
                </a:lnTo>
                <a:lnTo>
                  <a:pt x="20409" y="17989"/>
                </a:lnTo>
                <a:lnTo>
                  <a:pt x="20409" y="10800"/>
                </a:lnTo>
                <a:lnTo>
                  <a:pt x="9790" y="10800"/>
                </a:lnTo>
                <a:lnTo>
                  <a:pt x="9790" y="17989"/>
                </a:lnTo>
                <a:lnTo>
                  <a:pt x="14177" y="17989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32767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4920" y="4648320"/>
          <a:ext cx="7924680" cy="838080"/>
        </p:xfrm>
        <a:graphic>
          <a:graphicData uri="http://schemas.openxmlformats.org/drawingml/2006/table">
            <a:tbl>
              <a:tblPr/>
              <a:tblGrid>
                <a:gridCol w="3047760"/>
                <a:gridCol w="48769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usatzinformation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G SRC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„...“ ALT=„Text zum Bild“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8305920" y="46483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48680" y="360036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58040" y="193356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58040" y="277164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58040" y="496260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838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447920"/>
            <a:ext cx="84582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undelement von Hypermedia-Dokum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netzung unterschiedlicher S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netzung unterschiedlicher Seitenbereiche (z.B. oben/un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bindung zu anderen Diensten/Anwendungen (z.B. Ema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0880" y="838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04920" y="1600200"/>
          <a:ext cx="8534160" cy="4662360"/>
        </p:xfrm>
        <a:graphic>
          <a:graphicData uri="http://schemas.openxmlformats.org/drawingml/2006/table">
            <a:tbl>
              <a:tblPr/>
              <a:tblGrid>
                <a:gridCol w="3276360"/>
                <a:gridCol w="5257800"/>
              </a:tblGrid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k innerhalb der Se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Zielangabe im Dokument wichtig!                                         &lt;A NAME=„name“&gt;...&lt;/A&gt;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A HREF=„#anker“&gt; ... &lt;/A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k innerhalb der Webpräse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A HREF=„Dateiname.htm“&gt; ... &lt;/A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A HREF=„Verzeichnisname/Dateiname.htm“&gt; ... &lt;/A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k zu bestimmten Stelle innerhalb einer anderen Se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A HREF=„Dateiname.htm#anker“&gt; ... &lt;/A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k zu einem Dokument auf einem anderen 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A HREF=„http://www.name.de/index.htm“&gt; ... &lt;/A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ail-L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A HREF=„MAILTO:adresse“&gt; Text &lt;/A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8305920" y="16002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58040" y="193356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838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table" descr=""/>
          <p:cNvPicPr/>
          <p:nvPr/>
        </p:nvPicPr>
        <p:blipFill>
          <a:blip r:embed="rId1"/>
          <a:stretch/>
        </p:blipFill>
        <p:spPr>
          <a:xfrm>
            <a:off x="3657600" y="1450800"/>
            <a:ext cx="5334120" cy="4035600"/>
          </a:xfrm>
          <a:prstGeom prst="rect">
            <a:avLst/>
          </a:prstGeom>
          <a:ln w="1440">
            <a:solidFill>
              <a:srgbClr val="0000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304920" y="1447920"/>
            <a:ext cx="34290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ngeleitet wird der tabellarische Inhalt durch das &lt;TABLE&gt;-TAG (mit eventuellen Größen- und Ausrichtungsangaben; beendet wird mit &lt;/TAB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de Zeile wird einzeln erstellt (&lt;TR&gt;...&lt;/TR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schließend in den Zeilen die einzelnen Spaltensegmente (Zellen) (&lt;TD&gt;...&lt;/TD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2819520"/>
            <a:ext cx="3809880" cy="152280"/>
          </a:xfrm>
          <a:prstGeom prst="rect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3276720"/>
            <a:ext cx="1295280" cy="1522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2895480"/>
            <a:ext cx="3049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3429000"/>
            <a:ext cx="0" cy="83808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00000">
            <a:off x="3731760" y="2514240"/>
            <a:ext cx="45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Ze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6292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Spal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838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7652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ehle“ immer in &lt;- und &gt;-Klammern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ehle“ als TAG oder ELEMENT bezeich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G / ELEMENT“ kann Attribute besi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4792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weisungen zur Darstellung als QUELLTEXT /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CODE bezeich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TEXT enthält Darstellungs-„Befehle“ und -In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838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09480" y="2438280"/>
          <a:ext cx="2514600" cy="187956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ile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lte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ile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lt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ile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lte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ile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lte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ile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lt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ile 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lte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343400" y="1219320"/>
            <a:ext cx="4572000" cy="472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TABLE WIDTH=50% BORDER=1 ALIGN=cen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TR&gt;                                </a:t>
            </a: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&lt;!- Anfang Zeile I 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TR&gt; Text &lt;/TR&gt;   </a:t>
            </a: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&lt;!- Zelle 1 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TR&gt; Text &lt;/TR&gt;   </a:t>
            </a: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&lt;!- Zelle 2 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TR&gt; Text &lt;/TR&gt;   </a:t>
            </a: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&lt;!- Zelle 2 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/TR&gt;                               </a:t>
            </a: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&lt;!- Ende Zeile I  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TR&gt;             </a:t>
            </a: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                   &lt;!- Anfang Zeile II  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TR&gt; Text 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TR&gt; Text 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TR&gt; Text 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TR&gt; Text 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TR&gt; Text 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TR&gt; Text 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/TABL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276720"/>
            <a:ext cx="10666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0880" y="838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447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zelnen Zellen können spalten- / zeilenweise miteinander verbunden ( vereint) werde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able" descr=""/>
          <p:cNvPicPr/>
          <p:nvPr/>
        </p:nvPicPr>
        <p:blipFill>
          <a:blip r:embed="rId1"/>
          <a:stretch/>
        </p:blipFill>
        <p:spPr>
          <a:xfrm>
            <a:off x="380880" y="2289240"/>
            <a:ext cx="5334120" cy="4035240"/>
          </a:xfrm>
          <a:prstGeom prst="rect">
            <a:avLst/>
          </a:prstGeom>
          <a:ln w="1440">
            <a:solidFill>
              <a:srgbClr val="000000"/>
            </a:solidFill>
            <a:miter/>
          </a:ln>
        </p:spPr>
      </p:pic>
      <p:pic>
        <p:nvPicPr>
          <p:cNvPr id="196" name="table2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5376960" cy="3983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943600" y="2954160"/>
            <a:ext cx="2971800" cy="7077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llen zeilenweise verbind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WSPAN=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4724280"/>
            <a:ext cx="3048120" cy="7077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llen spaltenweise verbind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COLSPAN=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skizze" descr=""/>
          <p:cNvPicPr/>
          <p:nvPr/>
        </p:nvPicPr>
        <p:blipFill>
          <a:blip r:embed="rId3"/>
          <a:stretch/>
        </p:blipFill>
        <p:spPr>
          <a:xfrm>
            <a:off x="2057400" y="4876920"/>
            <a:ext cx="20574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029200" y="3352680"/>
            <a:ext cx="914400" cy="1600200"/>
            <a:chOff x="5029200" y="3352680"/>
            <a:chExt cx="914400" cy="1600200"/>
          </a:xfrm>
        </p:grpSpPr>
        <p:sp>
          <p:nvSpPr>
            <p:cNvPr id="201" name=""/>
            <p:cNvSpPr/>
            <p:nvPr/>
          </p:nvSpPr>
          <p:spPr>
            <a:xfrm>
              <a:off x="5029200" y="3809880"/>
              <a:ext cx="0" cy="11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029200" y="3352680"/>
              <a:ext cx="914400" cy="990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905120" y="4952880"/>
            <a:ext cx="4038480" cy="152640"/>
            <a:chOff x="1905120" y="4952880"/>
            <a:chExt cx="4038480" cy="152640"/>
          </a:xfrm>
        </p:grpSpPr>
        <p:sp>
          <p:nvSpPr>
            <p:cNvPr id="204" name=""/>
            <p:cNvSpPr/>
            <p:nvPr/>
          </p:nvSpPr>
          <p:spPr>
            <a:xfrm>
              <a:off x="1905120" y="4952880"/>
              <a:ext cx="23619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1280" y="4952880"/>
              <a:ext cx="2362320" cy="15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0880" y="838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676520"/>
            <a:ext cx="73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523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als Layout-Hil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table3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93388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ite01" descr=""/>
          <p:cNvPicPr/>
          <p:nvPr/>
        </p:nvPicPr>
        <p:blipFill>
          <a:blip r:embed="rId1"/>
          <a:stretch/>
        </p:blipFill>
        <p:spPr>
          <a:xfrm>
            <a:off x="1066680" y="674640"/>
            <a:ext cx="8001000" cy="511668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1447920" y="2819160"/>
            <a:ext cx="5181480" cy="686160"/>
            <a:chOff x="1447920" y="2819160"/>
            <a:chExt cx="5181480" cy="686160"/>
          </a:xfrm>
        </p:grpSpPr>
        <p:sp>
          <p:nvSpPr>
            <p:cNvPr id="49" name=""/>
            <p:cNvSpPr/>
            <p:nvPr/>
          </p:nvSpPr>
          <p:spPr>
            <a:xfrm>
              <a:off x="1447920" y="2819520"/>
              <a:ext cx="4572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3505320"/>
              <a:ext cx="4572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6019920" y="2819160"/>
              <a:ext cx="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19920" y="3124080"/>
              <a:ext cx="6094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5486400" y="213372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47920" y="3657600"/>
            <a:ext cx="5181480" cy="838080"/>
            <a:chOff x="1447920" y="3657600"/>
            <a:chExt cx="5181480" cy="838080"/>
          </a:xfrm>
        </p:grpSpPr>
        <p:sp>
          <p:nvSpPr>
            <p:cNvPr id="55" name=""/>
            <p:cNvSpPr/>
            <p:nvPr/>
          </p:nvSpPr>
          <p:spPr>
            <a:xfrm>
              <a:off x="1447920" y="3657600"/>
              <a:ext cx="4572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47920" y="4495680"/>
              <a:ext cx="4572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019920" y="365760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19920" y="4038480"/>
              <a:ext cx="6094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85440" y="2362320"/>
            <a:ext cx="914400" cy="2590560"/>
            <a:chOff x="685440" y="2362320"/>
            <a:chExt cx="914400" cy="2590560"/>
          </a:xfrm>
        </p:grpSpPr>
        <p:sp>
          <p:nvSpPr>
            <p:cNvPr id="60" name=""/>
            <p:cNvSpPr/>
            <p:nvPr/>
          </p:nvSpPr>
          <p:spPr>
            <a:xfrm flipH="1">
              <a:off x="990360" y="2362320"/>
              <a:ext cx="6094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990360" y="4952880"/>
              <a:ext cx="6094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990720" y="2362320"/>
              <a:ext cx="0" cy="2590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85440" y="3657600"/>
              <a:ext cx="304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629400" y="1981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Spezifikation (HTML 4.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„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opfbereich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38862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„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örper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35053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eite02" descr=""/>
          <p:cNvPicPr/>
          <p:nvPr/>
        </p:nvPicPr>
        <p:blipFill>
          <a:blip r:embed="rId1"/>
          <a:stretch/>
        </p:blipFill>
        <p:spPr>
          <a:xfrm>
            <a:off x="1386000" y="609480"/>
            <a:ext cx="7605720" cy="5376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2120" y="762120"/>
            <a:ext cx="5331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838080" y="1981080"/>
            <a:ext cx="457200" cy="2133720"/>
            <a:chOff x="838080" y="1981080"/>
            <a:chExt cx="457200" cy="2133720"/>
          </a:xfrm>
        </p:grpSpPr>
        <p:sp>
          <p:nvSpPr>
            <p:cNvPr id="71" name=""/>
            <p:cNvSpPr/>
            <p:nvPr/>
          </p:nvSpPr>
          <p:spPr>
            <a:xfrm>
              <a:off x="1295280" y="1981080"/>
              <a:ext cx="0" cy="2133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8080" y="297180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-76320" y="549360"/>
            <a:ext cx="1067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3300"/>
                </a:solidFill>
                <a:latin typeface="Arial"/>
              </a:rPr>
              <a:t>Head </a:t>
            </a: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(&lt;TITLE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819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838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fall Sonderzeic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44792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 fehlender Beschreibung eventuell fehlerhafte Dar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stellung in Form von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0495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chtige Ent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3581280"/>
            <a:ext cx="6934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Ä - &amp;Aum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ä - &amp;auml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eerzeichen - &amp;nbs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ß - &amp;szli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pyright-Zeichen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©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- &amp;cop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838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h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447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ann direkt zwischen den BODY-TAGs getippt we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20574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2133720"/>
            <a:ext cx="5486400" cy="3111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erifa BT"/>
              </a:rPr>
              <a:t>&lt;HTML&gt;                                                      &lt;HEAD&gt;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Serifa B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erifa BT"/>
              </a:rPr>
              <a:t>&lt;TITLE&gt;Meine erste Seite&lt;/TITLE&gt;  &lt;/HEAD&gt;                                                           &lt;BODY&gt;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Serifa B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erifa BT"/>
              </a:rPr>
              <a:t>sinnloser, langer Beispieltext               </a:t>
            </a:r>
            <a:r>
              <a:rPr b="0" lang="de-DE" sz="1800" spc="-1" strike="noStrike">
                <a:solidFill>
                  <a:srgbClr val="000000"/>
                </a:solidFill>
                <a:latin typeface="Serifa B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erifa BT"/>
              </a:rPr>
              <a:t>agaghgfhgfhgfhdgfs gfhgfdsagdfhgfhgfd </a:t>
            </a:r>
            <a:r>
              <a:rPr b="0" lang="de-DE" sz="1800" spc="-1" strike="noStrike">
                <a:solidFill>
                  <a:srgbClr val="000000"/>
                </a:solidFill>
                <a:latin typeface="Serifa B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erifa BT"/>
              </a:rPr>
              <a:t>gfgfhgfhfgfhgfrgfhgfhgfhgfhgfhgfgfhgfhgf</a:t>
            </a:r>
            <a:r>
              <a:rPr b="0" lang="de-DE" sz="1800" spc="-1" strike="noStrike">
                <a:solidFill>
                  <a:srgbClr val="000000"/>
                </a:solidFill>
                <a:latin typeface="Serifa B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erifa BT"/>
              </a:rPr>
              <a:t>hgfhrehgfg  gfhgfhgfhgfghh  rewgfhgf                    &lt;/BODY&gt;                                                    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4876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bebeb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524844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838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h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447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rd mit Formatierungsanweisungen vers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04920" y="2395440"/>
          <a:ext cx="7924680" cy="3799080"/>
        </p:xfrm>
        <a:graphic>
          <a:graphicData uri="http://schemas.openxmlformats.org/drawingml/2006/table">
            <a:tbl>
              <a:tblPr/>
              <a:tblGrid>
                <a:gridCol w="3203280"/>
                <a:gridCol w="911520"/>
                <a:gridCol w="380988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z.B.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ilenumbr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BR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s ist die erste Zeil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BR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ch dem Umbruch folgt eine neue Zeil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sat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P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 &lt;/P&gt;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s ist die erste Zei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P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ch einem Absatz kommt Zeile 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i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HR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s ist die erste Zei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HR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ch einer Linie kommt Zeile 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8305920" y="3048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bebebe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38862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bebebe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05920" y="47242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15100" y="3837"/>
                </a:moveTo>
                <a:lnTo>
                  <a:pt x="17676" y="6448"/>
                </a:lnTo>
                <a:lnTo>
                  <a:pt x="17676" y="4707"/>
                </a:lnTo>
                <a:lnTo>
                  <a:pt x="19451" y="4707"/>
                </a:lnTo>
                <a:lnTo>
                  <a:pt x="19451" y="8224"/>
                </a:lnTo>
                <a:lnTo>
                  <a:pt x="22063" y="10800"/>
                </a:lnTo>
                <a:lnTo>
                  <a:pt x="20409" y="10800"/>
                </a:lnTo>
                <a:lnTo>
                  <a:pt x="20409" y="17989"/>
                </a:lnTo>
                <a:lnTo>
                  <a:pt x="9790" y="17989"/>
                </a:lnTo>
                <a:lnTo>
                  <a:pt x="9790" y="10800"/>
                </a:lnTo>
                <a:lnTo>
                  <a:pt x="8137" y="10800"/>
                </a:lnTo>
                <a:close/>
              </a:path>
              <a:path fill="darkenLess" w="30199" h="21600">
                <a:moveTo>
                  <a:pt x="17676" y="6448"/>
                </a:moveTo>
                <a:lnTo>
                  <a:pt x="17676" y="4707"/>
                </a:lnTo>
                <a:lnTo>
                  <a:pt x="19451" y="4707"/>
                </a:lnTo>
                <a:lnTo>
                  <a:pt x="19451" y="8224"/>
                </a:lnTo>
                <a:close/>
              </a:path>
              <a:path fill="darkenLess" w="30199" h="21600">
                <a:moveTo>
                  <a:pt x="14177" y="14299"/>
                </a:moveTo>
                <a:lnTo>
                  <a:pt x="16022" y="14299"/>
                </a:lnTo>
                <a:lnTo>
                  <a:pt x="16022" y="17989"/>
                </a:lnTo>
                <a:lnTo>
                  <a:pt x="20409" y="17989"/>
                </a:lnTo>
                <a:lnTo>
                  <a:pt x="20409" y="10800"/>
                </a:lnTo>
                <a:lnTo>
                  <a:pt x="9790" y="10800"/>
                </a:lnTo>
                <a:lnTo>
                  <a:pt x="9790" y="17989"/>
                </a:lnTo>
                <a:lnTo>
                  <a:pt x="14177" y="17989"/>
                </a:lnTo>
                <a:close/>
              </a:path>
            </a:pathLst>
          </a:custGeom>
          <a:solidFill>
            <a:srgbClr val="bebebe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05920" y="55627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bebebe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29600" y="339084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29600" y="421956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20240" y="505764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29600" y="589608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838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lemente /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447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önnen durch Attribute näher bestimm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2395440"/>
          <a:ext cx="7924680" cy="3673440"/>
        </p:xfrm>
        <a:graphic>
          <a:graphicData uri="http://schemas.openxmlformats.org/drawingml/2006/table">
            <a:tbl>
              <a:tblPr/>
              <a:tblGrid>
                <a:gridCol w="4572000"/>
                <a:gridCol w="1143000"/>
                <a:gridCol w="220968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z.B. Anweisung: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ichne Linie, die halb so breit (=50%) wie das Fenster ist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HR WIDTH=„50%“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ichne Linie, die 10 Pixel stark 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HR SIZE=„10“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ichne eine Linie mit 50% der Fenster breite, die rechtsbündig 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HR WIDTH=„50%“ ALIGN=RIGTH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8305920" y="3048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bebebe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05920" y="38862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bebebe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05920" y="45720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bebebe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29600" y="339084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38960" y="4219560"/>
            <a:ext cx="66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0240" y="490536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8a9"/>
            </a:gs>
            <a:gs pos="100000">
              <a:srgbClr val="4b6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8380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lemente / TAGs der Textformat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600200"/>
          <a:ext cx="7924680" cy="4952880"/>
        </p:xfrm>
        <a:graphic>
          <a:graphicData uri="http://schemas.openxmlformats.org/drawingml/2006/table">
            <a:tbl>
              <a:tblPr/>
              <a:tblGrid>
                <a:gridCol w="3276360"/>
                <a:gridCol w="464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Überschrifte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H1&gt;...&lt;/H1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tt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/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ursiv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ext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B&gt;...&lt;/B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I&gt;...&lt;/I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Hoch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/ 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tiefgestellt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SUP&gt;...&lt;/SUP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SUB&gt;...&lt;/SUB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oßer /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lein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BIG&gt;...&lt;/BIG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SMALL&gt;...&lt;/SMALL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ierte 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OL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LI&gt;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fzählung 1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/LI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LI&gt;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fzählung 2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/LI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/OL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sortierte 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UL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LI&gt;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fzählung 1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/LI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LI&gt;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fzählung 2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/LI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/UL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8305920" y="21337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bebebe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05920" y="26668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15100" y="3837"/>
                </a:moveTo>
                <a:lnTo>
                  <a:pt x="17676" y="6448"/>
                </a:lnTo>
                <a:lnTo>
                  <a:pt x="17676" y="4707"/>
                </a:lnTo>
                <a:lnTo>
                  <a:pt x="19451" y="4707"/>
                </a:lnTo>
                <a:lnTo>
                  <a:pt x="19451" y="8224"/>
                </a:lnTo>
                <a:lnTo>
                  <a:pt x="22063" y="10800"/>
                </a:lnTo>
                <a:lnTo>
                  <a:pt x="20409" y="10800"/>
                </a:lnTo>
                <a:lnTo>
                  <a:pt x="20409" y="17989"/>
                </a:lnTo>
                <a:lnTo>
                  <a:pt x="9790" y="17989"/>
                </a:lnTo>
                <a:lnTo>
                  <a:pt x="9790" y="10800"/>
                </a:lnTo>
                <a:lnTo>
                  <a:pt x="8137" y="10800"/>
                </a:lnTo>
                <a:close/>
              </a:path>
              <a:path fill="darkenLess" w="30199" h="21600">
                <a:moveTo>
                  <a:pt x="17676" y="6448"/>
                </a:moveTo>
                <a:lnTo>
                  <a:pt x="17676" y="4707"/>
                </a:lnTo>
                <a:lnTo>
                  <a:pt x="19451" y="4707"/>
                </a:lnTo>
                <a:lnTo>
                  <a:pt x="19451" y="8224"/>
                </a:lnTo>
                <a:close/>
              </a:path>
              <a:path fill="darkenLess" w="30199" h="21600">
                <a:moveTo>
                  <a:pt x="14177" y="14299"/>
                </a:moveTo>
                <a:lnTo>
                  <a:pt x="16022" y="14299"/>
                </a:lnTo>
                <a:lnTo>
                  <a:pt x="16022" y="17989"/>
                </a:lnTo>
                <a:lnTo>
                  <a:pt x="20409" y="17989"/>
                </a:lnTo>
                <a:lnTo>
                  <a:pt x="20409" y="10800"/>
                </a:lnTo>
                <a:lnTo>
                  <a:pt x="9790" y="10800"/>
                </a:lnTo>
                <a:lnTo>
                  <a:pt x="9790" y="17989"/>
                </a:lnTo>
                <a:lnTo>
                  <a:pt x="14177" y="17989"/>
                </a:lnTo>
                <a:close/>
              </a:path>
            </a:pathLst>
          </a:custGeom>
          <a:solidFill>
            <a:srgbClr val="bebebe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32767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beb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38098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15100" y="3837"/>
                </a:moveTo>
                <a:lnTo>
                  <a:pt x="17676" y="6448"/>
                </a:lnTo>
                <a:lnTo>
                  <a:pt x="17676" y="4707"/>
                </a:lnTo>
                <a:lnTo>
                  <a:pt x="19451" y="4707"/>
                </a:lnTo>
                <a:lnTo>
                  <a:pt x="19451" y="8224"/>
                </a:lnTo>
                <a:lnTo>
                  <a:pt x="22063" y="10800"/>
                </a:lnTo>
                <a:lnTo>
                  <a:pt x="20409" y="10800"/>
                </a:lnTo>
                <a:lnTo>
                  <a:pt x="20409" y="17989"/>
                </a:lnTo>
                <a:lnTo>
                  <a:pt x="9790" y="17989"/>
                </a:lnTo>
                <a:lnTo>
                  <a:pt x="9790" y="10800"/>
                </a:lnTo>
                <a:lnTo>
                  <a:pt x="8137" y="10800"/>
                </a:lnTo>
                <a:close/>
              </a:path>
              <a:path fill="darkenLess" w="30199" h="21600">
                <a:moveTo>
                  <a:pt x="17676" y="6448"/>
                </a:moveTo>
                <a:lnTo>
                  <a:pt x="17676" y="4707"/>
                </a:lnTo>
                <a:lnTo>
                  <a:pt x="19451" y="4707"/>
                </a:lnTo>
                <a:lnTo>
                  <a:pt x="19451" y="8224"/>
                </a:lnTo>
                <a:close/>
              </a:path>
              <a:path fill="darkenLess" w="30199" h="21600">
                <a:moveTo>
                  <a:pt x="14177" y="14299"/>
                </a:moveTo>
                <a:lnTo>
                  <a:pt x="16022" y="14299"/>
                </a:lnTo>
                <a:lnTo>
                  <a:pt x="16022" y="17989"/>
                </a:lnTo>
                <a:lnTo>
                  <a:pt x="20409" y="17989"/>
                </a:lnTo>
                <a:lnTo>
                  <a:pt x="20409" y="10800"/>
                </a:lnTo>
                <a:lnTo>
                  <a:pt x="9790" y="10800"/>
                </a:lnTo>
                <a:lnTo>
                  <a:pt x="9790" y="17989"/>
                </a:lnTo>
                <a:lnTo>
                  <a:pt x="14177" y="17989"/>
                </a:lnTo>
                <a:close/>
              </a:path>
            </a:pathLst>
          </a:custGeom>
          <a:solidFill>
            <a:srgbClr val="bebebe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05920" y="4876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4800600" y="6019920"/>
            <a:ext cx="2362320" cy="380880"/>
          </a:xfrm>
          <a:custGeom>
            <a:avLst/>
            <a:gdLst>
              <a:gd name="textAreaLeft" fmla="*/ 24480 w 2362320"/>
              <a:gd name="textAreaRight" fmla="*/ 2337840 w 2362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33863" h="21600">
                <a:moveTo>
                  <a:pt x="0" y="0"/>
                </a:moveTo>
                <a:lnTo>
                  <a:pt x="133863" y="0"/>
                </a:lnTo>
                <a:lnTo>
                  <a:pt x="133863" y="21600"/>
                </a:lnTo>
                <a:lnTo>
                  <a:pt x="0" y="21600"/>
                </a:lnTo>
                <a:close/>
              </a:path>
              <a:path fill="lightenLess" w="133863" h="21600">
                <a:moveTo>
                  <a:pt x="0" y="0"/>
                </a:moveTo>
                <a:lnTo>
                  <a:pt x="133863" y="0"/>
                </a:lnTo>
                <a:lnTo>
                  <a:pt x="132463" y="1400"/>
                </a:lnTo>
                <a:lnTo>
                  <a:pt x="1400" y="1400"/>
                </a:lnTo>
                <a:close/>
              </a:path>
              <a:path fill="darken" w="133863" h="21600">
                <a:moveTo>
                  <a:pt x="133863" y="0"/>
                </a:moveTo>
                <a:lnTo>
                  <a:pt x="133863" y="21600"/>
                </a:lnTo>
                <a:lnTo>
                  <a:pt x="132463" y="20200"/>
                </a:lnTo>
                <a:lnTo>
                  <a:pt x="132463" y="1400"/>
                </a:lnTo>
                <a:close/>
              </a:path>
              <a:path fill="darkenLess" w="133863" h="21600">
                <a:moveTo>
                  <a:pt x="133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463" y="20200"/>
                </a:lnTo>
                <a:close/>
              </a:path>
              <a:path fill="lighten" w="133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 Mehr zu Listen...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6002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bebebe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58040" y="361008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48680" y="413388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48680" y="521028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58040" y="300024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38960" y="2457360"/>
            <a:ext cx="66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48680" y="192420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43840" y="609588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ic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6:03:18Z</dcterms:created>
  <dc:creator>Andreas Northe</dc:creator>
  <dc:description/>
  <dc:language>en-US</dc:language>
  <cp:lastModifiedBy>ANorthe</cp:lastModifiedBy>
  <dcterms:modified xsi:type="dcterms:W3CDTF">2003-10-21T10:02:46Z</dcterms:modified>
  <cp:revision>41</cp:revision>
  <dc:subject/>
  <dc:title>PowerPoint-Präsentation</dc:title>
</cp:coreProperties>
</file>